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CE5-098F-4FC3-9860-752D3364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4E4-8049-4BA3-8376-7F561520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FEBFC-11CA-499B-B946-825B8E7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22D85-5869-4EBD-8C8F-9CA54F08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E3E21-4634-43AB-86DC-18DF55BE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815AE-341F-46EF-8C0E-E804B8EC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12493-C7D0-4C69-94E4-D979447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99B92-2C02-43D8-A8D8-0594B08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9453E-CED2-4AA8-B30B-03868365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B42F4-556B-49D0-9593-AFB0F471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25764-7E36-44BF-A3E8-FA4ABAF8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7E4AE-DD04-4A89-BF62-66A460C8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0A6-A710-4D7E-B185-8DEA7F48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D7DE8-7658-4DA9-9364-FD91048D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F9B1A-E8FA-4768-93B7-459C588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35427-D975-4ED7-A936-3DB2ECB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63D14-2D94-4C81-9DF0-0A1CB4A7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EDBBF-2A4D-45F8-AE45-4D61F85B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04B15-3879-4BC9-91E7-E19A230F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CCC6C-E0AD-41E1-9AFC-F0B0E539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E18C1-E2C8-4C2A-9553-74522C2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7158C-C2D2-4616-9405-CCF3D0D1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1F70A-6A41-4F36-89CB-CE4BE718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295-B9C5-43D0-98CA-D9370B07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DE491-D020-4B93-8CFC-FDF2941A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A41FC-534A-40FB-87F0-6D813F98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4A7DA-B4B1-44AA-B865-E2EC3F0C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DFA3E-BE5E-430E-93CF-D7710F88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444E8-2021-4B2A-A6BD-2D2957FA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32DF0-63A9-469D-8377-88C6A287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E64A3-B1DF-4E84-BCFC-BAC98C88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556A9-5285-436A-BCEB-31AAE32B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19E9C-69BA-4846-9BE2-45E36405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08D12-EEBB-41D7-A4F8-1C33EDD0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848B-9E92-44FB-BB85-B549B39C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33997-D6C6-49FE-87B9-613E24F2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D56EE-3687-45E5-BB12-D4C350A0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C55A5-60C6-4ECA-A48B-6258E8EF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CCE0F-2E93-4EA0-9CC7-8815CE4D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7D171-3607-45BD-BA55-1A37A3D6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A1483-A6F1-4C9E-8A37-0F375689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57D90-73DD-4FB1-8843-63D27EB1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44568-D871-4010-95F5-670D5988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A6B06-6A9B-40D3-A5EA-B004AB02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6446E-A784-43EC-BDD7-C200822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52CF-9DD9-4445-8013-CDDE15E6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FEE7A-53CE-41A3-BE74-6194316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E5EC0-DC0B-4D6E-85F7-494796C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5DBB1-5B40-4EE2-9483-4E1052CE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46890-613D-4A05-9705-7CCF6230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ABB65-134D-48F3-9326-96D36DFE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897C1-F7D0-4CD4-BE48-D02F7274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AC7D4-3939-4EEA-B850-B27E3CCA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1B3FA-B906-40CF-94DF-62970C13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22FBB-C72B-42E9-A355-C385C6B7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B8DFF-E009-40BE-A959-B6F5AEC6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DB1E-C0C7-413C-8935-7A646D19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AC964-7452-4783-9AE3-135C9A26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FAD94-B012-416F-ABCC-A9DC5665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54ADB-8DFA-44DC-94B9-1BAC36EA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5E993-206F-40AE-A524-E88FCC90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BDCF8-85CD-44A6-AC70-FA4CF314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73926-174F-4001-B1C5-8090EA5C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10907-530F-41CA-9B9A-1AE1856C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49524-C9DD-462D-9175-63379D6A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4DE83-39DC-4EA0-A8EC-A2BD4CD9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C7FA2-E2B5-41BA-B588-8BECDC7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D020-1D4B-4D5F-A1FB-D4A077AA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7D1E1-6158-4C34-81C0-3ABAC766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61667-B57E-45E5-A494-695A091F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24AFB-FE44-48FD-86D0-DEE10814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E89CC-C259-4033-A7EA-4975E915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A390E-4C5D-4F2A-933B-C0479A93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A5A13-9574-4F84-B826-695E148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7ACAB-F9B1-42BD-955B-0D2768E3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65D0E-7EF2-4BEF-A346-E098CAAB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A405D-38C3-4A36-8DDB-97A993DF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5F9FE-54F0-4BFA-AC49-D8AB3B61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E476-E7A4-48CB-A7DE-31F4B1AD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774E4-AE09-4F64-B17F-9B115457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FAA91-E4D3-4677-BC72-2CA0AECD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7E6DD-5850-4D76-B202-2C456468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C16FE-E4E3-4043-8436-D6A28F16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721A3-6BFE-4866-9C65-A014A02A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21CA2-F880-4B9B-B566-0E0E35E2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A7443-7BF2-42FB-BE32-1BA505D2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CFD28-C894-4D08-84B1-1DF0B720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D6885-F1D1-40DF-83EC-7D7D7A03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895E4-58DF-4A47-92B4-3E668889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BB35-5385-463D-84A9-6F963BB4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90908-914E-4BB9-9A6D-2957D8A5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5C2BB-6412-4B16-BF71-0824965E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22476-DCA9-4863-AD08-6CDCB5B1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BCC832-D028-4D01-A244-DEB6F7AA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C3434-A847-4AC5-9977-F2D9D7AE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92170-BA45-4AE0-A95C-09068EA9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018D89-4C8F-4EE8-A913-D4676B3C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AE35BD-FC43-4C6E-912C-642DE317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A20EA-7403-480F-9EC5-4EB6FDE6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FC34A-4580-4471-822B-80F3EA32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C3BD-CDFD-46F5-A60F-B38C47A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D7230-1C7C-40FA-A373-30FACFC6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46078-B71B-48DB-94E3-8AD2FC08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80D5C-5B21-4A53-8E8E-61A6992E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74EAA1-7359-4298-AABF-D2FD10C4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91FA7-9BCD-4497-AA3A-4904390A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CC2AD-20A2-4433-9389-75B988CA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675BF-BABC-4A8B-8738-2488C6B2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13B03-78FE-4AEB-AFED-1B1F1EDC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6F125-34FA-4E55-A308-E7D339CB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B98CA-2A29-4154-9B88-A15317C6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4DC-2D32-4750-BC21-0744FD49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42AD-9CB6-4C15-8858-6ADC7CA0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A6EE5-3CB8-4588-9697-98AB4FC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D8E82-32A0-4F8D-9D1F-FB576536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0AAEA-2471-4FD5-9F27-D2B9403A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01A92-E1B4-4BF1-969D-FFAAC209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688A5-7823-4A72-AD6F-E355C3E0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7A8CB2-BD74-4573-A72A-A791895D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4B80E-3E5F-4283-A68A-364A4EB0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6AC8C-B3E6-471A-9508-A31F0095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6FDC3B-CC6E-4E73-B742-5FA5AB1C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59D05C-9DEC-4F2B-9BF0-975B3A4B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5DC0-F48B-4DFA-AAF1-92D5C241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C802C-01F8-4788-9834-AA8D7F17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8D137F-1715-4114-A66A-3BDFCFF3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60E6F-89F6-4E05-B432-B9B6253B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5A8885-8804-422A-9689-C7B8B9DF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6C55D-981F-4D5B-B0AE-A2C12177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B1275-70A6-4789-BAF3-BDA8F2F8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A6DDC-94F3-40B8-90D4-25D5F1D9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BCF2F-8DA3-4C88-B746-B4E39E5C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EAA771-698A-4F11-8037-721A8603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6A05C-C526-4460-AA3B-73DCAC59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793A-7E72-498D-B490-4A4D3E81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C67C6-608D-4DF4-AEED-B3D5304D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A93104-5DD5-49AF-AC5E-0C51B02C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3581C-8DB8-4CD1-B1E9-B18E04D8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F5B2C1-F536-48C2-8589-7A5928E7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0ECD9-4FAE-44E4-9FC5-15D9E50E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02F1D1-CCE8-4FB1-A196-36D9467B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B917E-AE63-444F-9CAF-884C7727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F9806-C982-4683-9957-9843F7C3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F292E-E64F-4E70-9D8E-118DBAF8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85F82-7AE9-4A13-A5D7-AE153ED8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BF3B-DA58-4D31-9992-FB51D8B5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9D1B5-45C6-4A2F-92B8-70C829B2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0247E-EE71-40F6-935C-0BAAEA94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66FD98-ADA3-4BE4-9D81-E518DB99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1A15A-1E6D-4D58-84AB-97FF5243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5BB514-5B79-4544-8B07-0E5A43CB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D7D3DE-A94B-4A9E-A257-CF537FEA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E2EFB7-571C-401E-8F52-5BA3002F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93CCFC-884B-43D3-91E0-8C923A7B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329C6-1FE2-4190-8479-1A1CBE59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D85B0-95B1-4890-A6B3-F067E64D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FC7D-2DE7-408B-AA8D-82FEDF84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AA7EDB-9731-4453-A548-C40CDC15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AFF396-EB11-4B9F-A7B0-541B2E9E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5F4CE7-4533-4390-A8C4-74BB4E0F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B9561D-A404-4ECD-BE9E-E356E17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639B5-E85B-4DE3-B13D-EDCC6594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B889B-5CA9-4B72-9B0B-BD2370FE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C15FE-B7AE-43EB-A6E6-E6E844B7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317489-F3C8-4364-9CE6-6A5F2721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00BB2-EDDE-4D53-BD01-FED35864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E150F-0F03-4AF3-A3E4-7BFE317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2103-797F-4B55-9834-B456A6E6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DE91B7-7B11-45DF-9313-B8CE3A51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897319-7540-467C-8A4E-F6D255D9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0B2304-24BD-4F24-BC45-28E4C340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4309-EFF3-453D-B35A-32A0E7EB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0942-245D-45AB-B290-35873CC7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09FAC-7BBD-4D01-9BEE-90753AA6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0209-CFDB-4E25-B877-7C847392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2B1-1894-409A-971F-D6533FA3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6CB2-DDE1-40D3-B33F-35B11982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7AC69-1EA4-48E8-AC47-45B16E7A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E002-F496-4D8B-84DC-A946A8BA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EA6B-7D0C-401C-A81F-3B1980E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484F-07A2-4779-9037-9F945733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19D45-AF00-45DC-B3C5-64C8443A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099F-E96B-4B2F-A11B-0BA2C418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A8EE-2A56-4151-A43D-CE03909C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50A1-07F6-49F0-87B4-E315190D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0CDB-55E8-4E85-BB26-EF9A95B8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F2E-50DD-4E71-9EA2-0D2C552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B63D-F9AA-4550-AE34-BCA353B8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C573-85AE-47D2-A01A-60840A1E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11E9-3661-459E-A105-2A4E7F0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9103-26B5-4ABD-BC80-C239C0C2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FCC94-1531-4554-9C54-CDB9F10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F55B-76AA-4CF1-9025-45DC3BB9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ACF0-715C-40DD-BFCB-C2024730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CF54-5219-4D92-8DED-94F5375F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8D79-6BEA-4568-AB2F-B069B0D6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FBA79-A89D-445D-9685-5768D08D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5B4-B9A7-4B64-8535-C069FA57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225AB-6DAD-4792-967E-8B750E0E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D0559-538E-4518-9663-1C3ECCE8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89B6E-562C-4A2F-989E-CD85286B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63307-921C-4135-9DED-66EE683B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80CA8-8D49-4387-901B-3F73F0A9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B9FFE-ED98-4F48-BC44-E567893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19522-7294-4A85-BE4B-994E523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733FA-577E-406D-8782-F0187E95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9B77B-D618-4DF1-9B00-6306D5EE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E0226-268A-43EC-85C8-7915FF08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40D-0AA8-4EAD-BE8C-1DC4C03B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2040C-DA1C-4624-9611-442B68D8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E762D-073B-40CC-B0B0-3FB195AC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2EC6F-4CA9-401C-BC6E-6952FEBF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F79B2-0776-4E29-85AD-E7875804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35D11-B247-4FE0-ACBA-D1C9C52B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4DFED-7930-4FD9-9A0E-15D75DC6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34B4B-B44E-4891-B707-016FECFF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FFB69-FE00-41B2-849B-4A33CE8A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7DEB8-EEDA-4992-8821-9A3386B2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9B879-3195-45C4-B466-B16EB946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E84-9DBA-40BB-B213-625183E6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EBEE6-AB0A-4CEC-9ACF-1ABE1F11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CED6-CAEF-47F8-B4C2-F44B8FB5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1579E-D512-41A6-8EA5-CC543180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64829-98D6-4D8C-B602-5739A43B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9AAD1-F7F2-47A2-959D-A4457D65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C6B3-5B9B-4EC7-9232-449EB313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111D7-C4A2-41DB-8A3B-68DD7AE4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DC329-97E2-4711-824F-5AE26C39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B31E3-D163-4625-8853-F3744392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598A1-C412-47C2-A753-F99A1015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E57-862E-4821-8CDE-81C0C8B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42E38-538E-4A3A-97BF-F54466C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716A6-C2C7-453A-9B1D-3220E7F9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6FFF4-A479-468D-BDA0-B6AC0AC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8D455-2D80-4C04-AF1A-E4578E35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96C2E-2F58-4470-A33F-719FB56C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E7C24-E16F-47A2-8F34-07048A37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ACA44-ABA3-4CBE-80AC-0FFD39B6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A3BA6-5065-495E-AD0A-493B40F6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58DA2-3BD8-45B3-8797-9C7E4E8A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66538-EBE4-4557-9098-38DCAEDF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58D-6E7E-4223-A51A-13592F56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E30D2-9BF6-4E0B-A728-9E2C1AEC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B8608-94E5-4935-A4DD-32D821F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47C80-93DD-458D-9FE7-56BE273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5A23C-9B59-482B-A15A-8BAE3829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78094-C51B-47EB-90A2-757FF247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FA94A-755D-4DD4-B0A3-D49BF78A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936FB-A4D2-4AD9-88FE-3BC32774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060CE-200A-4BC3-93C3-3D242683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F5C16-D29F-4A37-8C64-80690386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48FC2-57CE-4445-AD38-8E239F46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12D8-71E4-49E1-9A89-B681C6FC2B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7FED-6309-4E71-A20E-9F6F49411D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5CA2-C6E7-4408-B145-0B31F16F64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E7C-D86E-45AE-9C9D-33CB7B8DB9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8A13-0DC2-47E6-AB62-5D8A42E646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D111-985B-49AE-8A4E-46A7CCF69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0722-83C9-4F71-8DC9-3BDA85E7DA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1FA4-F3BC-4E05-9701-0B72BAEA3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63BD-9893-4755-800B-094BBFB902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80D1-0FF6-4E66-BFF3-B0729CB413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F296-339E-4642-9FB9-1306B1DE75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93D3-D2FF-4CC6-8887-6678363F2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C764-69F7-439B-8879-7604A1026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3540-DC87-4ED5-AC09-270E56AC17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8929-D0D4-479A-A149-8BC5026405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5340-4BF2-42D0-B477-FCCEFFC653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0780-3929-4D78-AAF6-3B1D13CA84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5BF2-B79F-4369-AC8B-6D7C29345D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332F-E246-45F2-B45B-06E834640F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CC88-300A-4F96-B9A9-2DF1EAAC91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80E-BE0E-46FB-B8C5-61E87134F0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3FAC-8853-4AA2-AE49-FD533F8A65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2058-BBD1-4B70-87F9-BC854FA62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7DE9-A085-4E5A-B14C-3E3D2B9F66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8BAF-90C5-462D-A472-676D21B76D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D1F2-28CD-4210-BE94-82CA77B732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599C-7917-4A7F-AABD-BA6D6B2BDB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8E39-FEA0-4486-B0B2-142C7812CF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806D-EC35-4D62-ACAD-09A127482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E116-C8FE-459F-9467-ECCB6F6E9F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CC43-0D09-42DF-9E6F-D33AEED2D6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14D0-583B-41F6-A5D1-53636C374F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47AF-81E3-41F2-8058-E244388F7F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6799-AEEA-4627-9740-CEC837714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4351-3491-4792-B44E-477F5DF760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4809-D471-4912-948B-0BDD3F179E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C5E0-42E3-4210-8CD7-3E3EDF16AD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67A3-2E60-4E6A-87BF-FEE6973DD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EDF3-5D4D-4647-B706-CB8C50E46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7371-DF35-4103-825A-3778BAF84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52680" y="3129120"/>
            <a:ext cx="423864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1271520"/>
            <a:ext cx="8839440" cy="4314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817560" y="2665440"/>
            <a:ext cx="801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808200" y="2997360"/>
            <a:ext cx="80136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681280" y="2665440"/>
            <a:ext cx="801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671920" y="2997360"/>
            <a:ext cx="80136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653000" y="2665440"/>
            <a:ext cx="8017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643280" y="2997360"/>
            <a:ext cx="801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659640" y="2665440"/>
            <a:ext cx="801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649920" y="2997360"/>
            <a:ext cx="801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395280" y="4278240"/>
            <a:ext cx="216072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95280" y="4600440"/>
            <a:ext cx="216072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395280" y="4941720"/>
            <a:ext cx="216072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24000" y="5257800"/>
            <a:ext cx="3743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114480" y="1004760"/>
            <a:ext cx="8915400" cy="4848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395280" y="1432080"/>
            <a:ext cx="23050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324000" y="1773360"/>
            <a:ext cx="230508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250920" y="2089080"/>
            <a:ext cx="230508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250920" y="2421000"/>
            <a:ext cx="381636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395280" y="4095720"/>
            <a:ext cx="2305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395280" y="4437000"/>
            <a:ext cx="230508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395280" y="4753080"/>
            <a:ext cx="230508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395280" y="5094360"/>
            <a:ext cx="230508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250920" y="5425920"/>
            <a:ext cx="352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8373" descr=""/>
          <p:cNvPicPr/>
          <p:nvPr/>
        </p:nvPicPr>
        <p:blipFill>
          <a:blip r:embed="rId1"/>
          <a:stretch/>
        </p:blipFill>
        <p:spPr>
          <a:xfrm>
            <a:off x="214200" y="2257560"/>
            <a:ext cx="8715600" cy="23428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611280" y="2717640"/>
            <a:ext cx="21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468360" y="3035160"/>
            <a:ext cx="216072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395280" y="3367080"/>
            <a:ext cx="2160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395280" y="3706920"/>
            <a:ext cx="3313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52:5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